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E9D-2610-420A-A337-BE342745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41-3429-494C-A4C1-A1AFD6CF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A0D-A78D-437F-BA3A-CE400802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8D7-EBF7-4890-A004-CD7E983B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114-4CB3-49DD-85BB-287D642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918-8F5F-401E-B593-F9E46F1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EFE-B4E3-4F03-BEED-56A0B87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8C3-A590-43C2-BCC9-6FB498E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A1C-C326-4ED3-81E5-B6D4FE9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897-96AE-4784-B10C-C68315A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954-731B-4A43-AA4A-BCE937E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654-9C82-4A52-8BEB-03FE564F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2214-AA7B-4547-8F7D-AA51B71E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roblem in ques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independent and depende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hypothesis or thes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lleted form, summarize the main background information you researched in order to understand your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in your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photos and short video clip here to verify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uals must verify that you collec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/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and Tables require titles and labels and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f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main findings of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at data supports/disproves your hypothesis or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all sources including books, websites, articles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ut too much information in on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fonts, animations, background, etc…. are professional and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28:46Z</dcterms:created>
  <dc:creator>khiggins2</dc:creator>
  <dc:description/>
  <dc:language>en-US</dc:language>
  <cp:lastModifiedBy>Janell Simpson</cp:lastModifiedBy>
  <dcterms:modified xsi:type="dcterms:W3CDTF">2011-05-11T14:50:01Z</dcterms:modified>
  <cp:revision>4</cp:revision>
  <dc:subject/>
  <dc:title>TITLE SLIDE</dc:title>
</cp:coreProperties>
</file>